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8AD-D8AD-439C-912C-268D9288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652A-5FE2-4880-8396-8BE238CA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C7D-C4AE-48B0-88BD-FAAE3111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4FC-BA2A-467E-91BE-2C330F9E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6D82-B7A3-4326-B472-7BFD611A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DA8C-398D-4D83-9F68-E580ACE7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63A7-5F01-4AF4-8EEC-C8E90ABD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0D46-09BE-487F-9024-E5D19FBD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5BF6-E559-49F1-A3BA-466CAF89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EEEE-CA88-4019-BA6E-74B17482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954D-80A1-4DDB-9105-3C35CDD5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192-71C3-462D-9C8A-654FDC15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5852-FB35-4679-BB52-37B3E9F2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F18D-F5E0-41F0-9BCA-5A340805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AF67-9D02-4EE4-A7B4-D17984AD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0C2C-FA11-4C3F-B224-E7EEF58B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C93C-1D66-4D23-A304-B7529273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D78A-F759-4DA4-8B8E-66E55D77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8FB71-BFF0-49A0-B6E0-97996BB2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65881-262B-43F8-93A2-840AAE63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F01F5-17C8-4B96-8E3A-2E3CF220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D8CFC-3512-4A6F-A352-B9FBA5C0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B03-177F-41D9-A2B8-D346B555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7AA44-F33B-4FF1-A385-DC91E473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87D52-1E34-4B79-B9EC-FD6350C1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01E3B-A356-45EC-92E5-55644015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DE6F-3498-49E9-8E93-FF09B973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EF9DC-6ABD-484B-9500-88576267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0E12F-39B3-42B8-B67D-73BF3A21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2F40-E6BD-4416-8A1F-A66F1AA0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5823F-CDEA-4CF9-B2B8-4FDD37C5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5455A-14DD-4622-A790-DB2F984D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0C1BD-A267-4224-A2E4-9C764E26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B0F7-DFCA-4FFE-B536-9843F6F2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62244-2461-4989-9C07-B2054C48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A531D-FAB9-46C0-A4FD-32AA4BBD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66403-EAAD-4C6A-9D7E-F697D6C7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CB17E-7FBF-4301-8B66-1D5D1E30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9E2FC-DF31-4047-9B36-ADBF4BBC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64F8-0ECC-4E50-BE55-E8498196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7C884-D3DB-4E5F-BEDB-5055E131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79CDD-D0C6-41EB-A1EF-3BD5F4EB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B6FCD-7FFA-4F8B-976C-A7CFD1AE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302E0-AD5E-4B37-99AB-3AA6F123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20A-E5FE-4958-80BC-4ADE78A0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45BB9-EC17-4466-9102-18C99567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40BBC-9100-479B-81F8-EF6D4C10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9DFE3-81CE-4AA7-AA9F-8FF6814A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FB3D7-2F54-431D-9CBE-5ED2A922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594A1-312C-4219-BF9E-EA005D76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04EC5-55F0-49AD-8518-60D6D0C4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B33DF-987A-4E4E-912B-B901F766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81BF6-2A4F-420C-AC9E-9D6E4D44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E8942-C73F-4A59-A553-9CB34961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A0FBE-2C1E-40E8-8322-22EE0DFB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0D5-32D5-4D36-8054-BD018D02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EFC1B-F734-443C-8877-8D97B81D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2DB2E-2C6D-4118-9529-A5862141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A2D6A-3E96-4E87-903C-3A22BCD9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2A3FB-E081-4C56-8846-2DF1B0E4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1DFF8-1C8B-4920-A175-C1BC97FC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94CA1-8879-4BF9-8CAF-AE5424B5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A25CB-3B07-4054-8224-574B00E4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E7A82-4BB2-4840-9077-6128EF5F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391D1-6677-475C-9DE0-DC6C9BAD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8A10F-0DA7-446B-A06B-3C6FA3C6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D5F-92C4-46FA-AD4B-FDE1F480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47AFB-E2B1-44E2-AA6C-54E85F79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61F15-A043-4990-A92C-2153A830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6F9A8-4C4B-40AB-87DB-389DCDAF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C73EE-8BBF-49DC-8508-53DC9117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E2367-E197-4E90-9E76-2C17357A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323B5-C624-4688-8460-46A1FAB1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DD7F4-D144-4C02-9825-643E2A79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4627D-84DA-4B09-BC8A-2634F79A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CD0B4-73A2-4E8F-8C40-BA28778C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45866-DDA6-471E-A2B7-5A2A7CB9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5A1-270C-43E4-A1CC-081D67DF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5C607-D7BC-491D-973E-8A2B9009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99D52-2C5C-45B8-8840-684C7459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2DC6E-0065-4B6D-82A7-A5B2EA96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2158E-8030-4EE5-9C0B-779A1BCB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084F7-392C-4C39-8272-13EFE615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A18B8-4A8E-41F7-BFF4-24DA00A0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DC20D-3FCD-41EF-B3F7-C75C137D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77E49-C332-4B36-AB6C-83E1D0A7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14D64-6826-48AC-83BA-B7E4F6DF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3D110-78A8-4C03-833B-2994F6CC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FED-A195-4483-8ECC-E97C08A6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8AEFE-ACD8-4519-9022-BC32446F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73522-D932-4AFB-BCE0-7B60ECD8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2E36E-03E8-4100-A228-EEBF67F2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C372E-C52C-4FC0-A95D-20D5D8A1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F2654-5BAF-4AB5-A37A-DC32B377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9D4B7-7983-4444-A8A3-09A53A3B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690CD-FD25-4507-BA8D-32155D33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2E15-4F34-4DE4-B9DA-5386C4DCFF5B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2C40-97FA-4E75-BDF9-9BFD3225A0AC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4622-AFF7-49A9-BB2A-4E100C66D4A4}" type="slidenum">
              <a:rPr b="0" lang="ru-RU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E18D-06F8-41CE-9EF9-8918418D9E3C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2596-A685-4AD8-956D-A04CD87368E3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4C3C-9402-46E3-83CB-C0048199575F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2822-84FD-40AA-9400-E6C6CB15FEF2}" type="slidenum">
              <a:rPr b="0" lang="ru-RU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D8C1-40EB-4D3D-91B8-7F77F27F9540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6"/>
          <p:cNvSpPr/>
          <p:nvPr/>
        </p:nvSpPr>
        <p:spPr>
          <a:xfrm>
            <a:off x="30081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4" name="Прямоугольник 7"/>
          <p:cNvSpPr/>
          <p:nvPr/>
        </p:nvSpPr>
        <p:spPr>
          <a:xfrm>
            <a:off x="30081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Прямоугольник 8"/>
          <p:cNvSpPr/>
          <p:nvPr/>
        </p:nvSpPr>
        <p:spPr>
          <a:xfrm>
            <a:off x="30081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6" name="Прямоугольник 9"/>
          <p:cNvSpPr/>
          <p:nvPr/>
        </p:nvSpPr>
        <p:spPr>
          <a:xfrm>
            <a:off x="642960" y="54936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Прямоугольник 8"/>
          <p:cNvSpPr/>
          <p:nvPr/>
        </p:nvSpPr>
        <p:spPr>
          <a:xfrm>
            <a:off x="826920" y="333360"/>
            <a:ext cx="806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45922"/>
                </a:solidFill>
                <a:latin typeface="Times New Roman"/>
                <a:ea typeface="Times New Roman"/>
              </a:rPr>
              <a:t>Альберт Гата улы Яхин методикасы буенча  әдәбият дәрес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8" name="Прямоугольник 9"/>
          <p:cNvSpPr/>
          <p:nvPr/>
        </p:nvSpPr>
        <p:spPr>
          <a:xfrm>
            <a:off x="971640" y="1484280"/>
            <a:ext cx="7272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Галимҗан Ибраһимовның</a:t>
            </a:r>
            <a:br>
              <a:rPr sz="4800"/>
            </a:br>
            <a:r>
              <a:rPr b="1" i="1" lang="tt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Алмачуар” </a:t>
            </a:r>
            <a:br>
              <a:rPr sz="4800"/>
            </a:br>
            <a:r>
              <a:rPr b="1" i="1" lang="tt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сәрендә  гаделлек темасы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2"/>
          <p:cNvSpPr/>
          <p:nvPr/>
        </p:nvSpPr>
        <p:spPr>
          <a:xfrm>
            <a:off x="1785960" y="642960"/>
            <a:ext cx="67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9" name="Прямоугольник 3"/>
          <p:cNvSpPr/>
          <p:nvPr/>
        </p:nvSpPr>
        <p:spPr>
          <a:xfrm>
            <a:off x="785880" y="1928880"/>
            <a:ext cx="8143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0" name="Прямоугольник 4"/>
          <p:cNvSpPr/>
          <p:nvPr/>
        </p:nvSpPr>
        <p:spPr>
          <a:xfrm>
            <a:off x="1042920" y="692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ыйгалар схемасы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1" name="Прямоугольник 5"/>
          <p:cNvSpPr/>
          <p:nvPr/>
        </p:nvSpPr>
        <p:spPr>
          <a:xfrm>
            <a:off x="33670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Прямоугольник 6"/>
          <p:cNvSpPr/>
          <p:nvPr/>
        </p:nvSpPr>
        <p:spPr>
          <a:xfrm>
            <a:off x="33670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3" name="Прямоугольник 7"/>
          <p:cNvSpPr/>
          <p:nvPr/>
        </p:nvSpPr>
        <p:spPr>
          <a:xfrm>
            <a:off x="611280" y="1628640"/>
            <a:ext cx="8064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539640" y="1083600"/>
            <a:ext cx="820908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Алмачуар» </a:t>
            </a: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әсәр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деллек                                                                     Закирның мәхәббәте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(дөреслек, хаклык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Гаделсезлек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Әлемгол             Кара            Староста      Закир                                 үзенә         Алмачуарга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бай                      бай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вакыйгасы                                                                                    чаптар       Сабантуенда    дан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булганга      узу өчен         өчен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җәза                     җәза               җәза            җәза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425" name="Прямая со стрелкой 11"/>
          <p:cNvCxnSpPr/>
          <p:nvPr/>
        </p:nvCxnSpPr>
        <p:spPr>
          <a:xfrm>
            <a:off x="5580000" y="1628640"/>
            <a:ext cx="721440" cy="648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26" name="Прямая со стрелкой 14"/>
          <p:cNvCxnSpPr/>
          <p:nvPr/>
        </p:nvCxnSpPr>
        <p:spPr>
          <a:xfrm flipH="1">
            <a:off x="2410920" y="1557000"/>
            <a:ext cx="1224720" cy="648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27" name="Прямая со стрелкой 22"/>
          <p:cNvCxnSpPr/>
          <p:nvPr/>
        </p:nvCxnSpPr>
        <p:spPr>
          <a:xfrm flipH="1" flipV="1">
            <a:off x="2245680" y="2687040"/>
            <a:ext cx="22680" cy="4546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28" name="Прямая со стрелкой 27"/>
          <p:cNvCxnSpPr/>
          <p:nvPr/>
        </p:nvCxnSpPr>
        <p:spPr>
          <a:xfrm>
            <a:off x="2410920" y="2708280"/>
            <a:ext cx="1080" cy="4341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29" name="Прямая со стрелкой 31"/>
          <p:cNvCxnSpPr/>
          <p:nvPr/>
        </p:nvCxnSpPr>
        <p:spPr>
          <a:xfrm flipH="1">
            <a:off x="2915640" y="2565000"/>
            <a:ext cx="3385080" cy="648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0" name="Прямая со стрелкой 33"/>
          <p:cNvCxnSpPr/>
          <p:nvPr/>
        </p:nvCxnSpPr>
        <p:spPr>
          <a:xfrm>
            <a:off x="6443280" y="2565360"/>
            <a:ext cx="1080" cy="1440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1" name="Прямая со стрелкой 35"/>
          <p:cNvCxnSpPr/>
          <p:nvPr/>
        </p:nvCxnSpPr>
        <p:spPr>
          <a:xfrm>
            <a:off x="6875640" y="2565000"/>
            <a:ext cx="792720" cy="13690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2" name="Прямая со стрелкой 37"/>
          <p:cNvCxnSpPr/>
          <p:nvPr/>
        </p:nvCxnSpPr>
        <p:spPr>
          <a:xfrm flipH="1" flipV="1">
            <a:off x="2770920" y="2420640"/>
            <a:ext cx="3313800" cy="14472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3" name="Прямая со стрелкой 39"/>
          <p:cNvCxnSpPr/>
          <p:nvPr/>
        </p:nvCxnSpPr>
        <p:spPr>
          <a:xfrm flipH="1">
            <a:off x="1402920" y="3357360"/>
            <a:ext cx="721440" cy="648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4" name="Прямая со стрелкой 41"/>
          <p:cNvCxnSpPr/>
          <p:nvPr/>
        </p:nvCxnSpPr>
        <p:spPr>
          <a:xfrm>
            <a:off x="2268360" y="3357360"/>
            <a:ext cx="216720" cy="648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5" name="Прямая со стрелкой 43"/>
          <p:cNvCxnSpPr/>
          <p:nvPr/>
        </p:nvCxnSpPr>
        <p:spPr>
          <a:xfrm>
            <a:off x="2410920" y="3357720"/>
            <a:ext cx="1081800" cy="576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6" name="Прямая со стрелкой 45"/>
          <p:cNvCxnSpPr/>
          <p:nvPr/>
        </p:nvCxnSpPr>
        <p:spPr>
          <a:xfrm>
            <a:off x="2626920" y="3357360"/>
            <a:ext cx="1801080" cy="648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7" name="Прямая со стрелкой 47"/>
          <p:cNvCxnSpPr/>
          <p:nvPr/>
        </p:nvCxnSpPr>
        <p:spPr>
          <a:xfrm flipH="1">
            <a:off x="6084000" y="4221000"/>
            <a:ext cx="1296360" cy="21672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8" name="Прямая со стрелкой 49"/>
          <p:cNvCxnSpPr/>
          <p:nvPr/>
        </p:nvCxnSpPr>
        <p:spPr>
          <a:xfrm flipH="1">
            <a:off x="7163640" y="4221000"/>
            <a:ext cx="361080" cy="21672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9" name="Прямая со стрелкой 51"/>
          <p:cNvCxnSpPr/>
          <p:nvPr/>
        </p:nvCxnSpPr>
        <p:spPr>
          <a:xfrm>
            <a:off x="7667280" y="4221000"/>
            <a:ext cx="289440" cy="21672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40" name="Прямая со стрелкой 53"/>
          <p:cNvCxnSpPr/>
          <p:nvPr/>
        </p:nvCxnSpPr>
        <p:spPr>
          <a:xfrm>
            <a:off x="1402920" y="4653000"/>
            <a:ext cx="1080" cy="21672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41" name="Прямая со стрелкой 55"/>
          <p:cNvCxnSpPr/>
          <p:nvPr/>
        </p:nvCxnSpPr>
        <p:spPr>
          <a:xfrm>
            <a:off x="2555640" y="4436640"/>
            <a:ext cx="1080" cy="3610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42" name="Прямая со стрелкой 57"/>
          <p:cNvCxnSpPr/>
          <p:nvPr/>
        </p:nvCxnSpPr>
        <p:spPr>
          <a:xfrm>
            <a:off x="3634920" y="4221000"/>
            <a:ext cx="1080" cy="648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43" name="Прямая со стрелкой 59"/>
          <p:cNvCxnSpPr/>
          <p:nvPr/>
        </p:nvCxnSpPr>
        <p:spPr>
          <a:xfrm>
            <a:off x="4500360" y="4221000"/>
            <a:ext cx="1080" cy="648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Рисунок 6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45" name="TextBox 7"/>
          <p:cNvSpPr/>
          <p:nvPr/>
        </p:nvSpPr>
        <p:spPr>
          <a:xfrm>
            <a:off x="3492360" y="1413000"/>
            <a:ext cx="49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6" name="Прямоугольник 5"/>
          <p:cNvSpPr/>
          <p:nvPr/>
        </p:nvSpPr>
        <p:spPr>
          <a:xfrm flipV="1" rot="10800000">
            <a:off x="1042560" y="5043960"/>
            <a:ext cx="58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7" name="Прямоугольник 5"/>
          <p:cNvSpPr/>
          <p:nvPr/>
        </p:nvSpPr>
        <p:spPr>
          <a:xfrm>
            <a:off x="1403280" y="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үзләргә аңлат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8" name="Прямоугольник 6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9" name="Прямоугольник 8"/>
          <p:cNvSpPr/>
          <p:nvPr/>
        </p:nvSpPr>
        <p:spPr>
          <a:xfrm>
            <a:off x="611280" y="836640"/>
            <a:ext cx="82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тиха кылды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та-ананың, остазның һ.б. рәсми рәвештә белдерелгән изге теләге, ризалыгы, юлламасы;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бүҗәһел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әйләкәр, алдакчы, явыз кеше;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әер-дог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яхшы теләк, яхшы дога;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әрәмлә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лдады, ялганлады;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үлия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е кеше;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әстә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выру, кыерсыту,кысу,урынсызга кимсетү, җәберләү;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әз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үз өстенә алган эш, шартлы вәгъдә;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әфе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әрсәне дә булса булдырырга көчле омтылыш, күпне өмет итү, комсызлык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2"/>
          <p:cNvSpPr/>
          <p:nvPr/>
        </p:nvSpPr>
        <p:spPr>
          <a:xfrm>
            <a:off x="1908000" y="549360"/>
            <a:ext cx="6336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2" name="Прямоугольник 8"/>
          <p:cNvSpPr/>
          <p:nvPr/>
        </p:nvSpPr>
        <p:spPr>
          <a:xfrm>
            <a:off x="971640" y="476280"/>
            <a:ext cx="770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әресебезне Г.Ибраһимовның тормыш иптәше Гөлсем Мөхәммәдованың сүзләре белән тәмамлыйсым килә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имҗан – бала җанлы кеше иде..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ңа инаныр өчен “Алмачуар” әсәрен генә укып карау да җитә. Бу гүзәл повесть минем иң беренче укыган әсәрем иде. Мин аны хәзер дә кайта-кайта укыйм. Ул шундый әсәр. Аны бөек язучы һәм бала җанлы кеше язган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 бөек язучы – үз күңелендәге балалыкны җуймаган кеше ул”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6"/>
          <p:cNvSpPr/>
          <p:nvPr/>
        </p:nvSpPr>
        <p:spPr>
          <a:xfrm>
            <a:off x="30081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1" name="Прямоугольник 7"/>
          <p:cNvSpPr/>
          <p:nvPr/>
        </p:nvSpPr>
        <p:spPr>
          <a:xfrm>
            <a:off x="30081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2" name="Прямоугольник 8"/>
          <p:cNvSpPr/>
          <p:nvPr/>
        </p:nvSpPr>
        <p:spPr>
          <a:xfrm>
            <a:off x="30081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3" name="Прямоугольник 9"/>
          <p:cNvSpPr/>
          <p:nvPr/>
        </p:nvSpPr>
        <p:spPr>
          <a:xfrm>
            <a:off x="642960" y="54936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Прямоугольник 8"/>
          <p:cNvSpPr/>
          <p:nvPr/>
        </p:nvSpPr>
        <p:spPr>
          <a:xfrm>
            <a:off x="826920" y="333360"/>
            <a:ext cx="80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5" name="Прямоугольник 9"/>
          <p:cNvSpPr/>
          <p:nvPr/>
        </p:nvSpPr>
        <p:spPr>
          <a:xfrm>
            <a:off x="971640" y="1484280"/>
            <a:ext cx="72723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6" name="Прямоугольник 10"/>
          <p:cNvSpPr/>
          <p:nvPr/>
        </p:nvSpPr>
        <p:spPr>
          <a:xfrm>
            <a:off x="1187280" y="26028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745922"/>
                </a:solidFill>
                <a:latin typeface="Times New Roman"/>
                <a:ea typeface="Times New Roman"/>
              </a:rPr>
              <a:t>Максатлар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7" name="Прямоугольник 11"/>
          <p:cNvSpPr/>
          <p:nvPr/>
        </p:nvSpPr>
        <p:spPr>
          <a:xfrm>
            <a:off x="971640" y="1268280"/>
            <a:ext cx="770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1d1409"/>
                </a:solidFill>
                <a:latin typeface="Times New Roman"/>
                <a:ea typeface="Times New Roman"/>
              </a:rPr>
              <a:t>Сәнгат</a:t>
            </a:r>
            <a:r>
              <a:rPr b="1" lang="ru-RU" sz="4000" spc="-1" strike="noStrike">
                <a:solidFill>
                  <a:srgbClr val="1d1409"/>
                </a:solidFill>
                <a:latin typeface="Times New Roman"/>
                <a:ea typeface="Times New Roman"/>
              </a:rPr>
              <a:t>ьле с</a:t>
            </a:r>
            <a:r>
              <a:rPr b="1" lang="tt-RU" sz="4000" spc="-1" strike="noStrike">
                <a:solidFill>
                  <a:srgbClr val="1d1409"/>
                </a:solidFill>
                <a:latin typeface="Times New Roman"/>
                <a:ea typeface="Times New Roman"/>
              </a:rPr>
              <a:t>өйләм (нәфис сүз остасы)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1d1409"/>
                </a:solidFill>
                <a:latin typeface="Times New Roman"/>
                <a:ea typeface="Times New Roman"/>
              </a:rPr>
              <a:t>Анализ ясау (тәнкыйт</a:t>
            </a:r>
            <a:r>
              <a:rPr b="1" lang="ru-RU" sz="4000" spc="-1" strike="noStrike">
                <a:solidFill>
                  <a:srgbClr val="1d1409"/>
                </a:solidFill>
                <a:latin typeface="Times New Roman"/>
                <a:ea typeface="Times New Roman"/>
              </a:rPr>
              <a:t>ьче)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1d1409"/>
                </a:solidFill>
                <a:latin typeface="Times New Roman"/>
                <a:ea typeface="Times New Roman"/>
              </a:rPr>
              <a:t>Нәтиҗә чыгару (әдәбият галиме)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2"/>
          <p:cNvSpPr/>
          <p:nvPr/>
        </p:nvSpPr>
        <p:spPr>
          <a:xfrm>
            <a:off x="2286000" y="357120"/>
            <a:ext cx="5929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9468000" y="2349360"/>
          <a:ext cx="2520720" cy="549360"/>
        </p:xfrm>
        <a:graphic>
          <a:graphicData uri="http://schemas.openxmlformats.org/drawingml/2006/table">
            <a:tbl>
              <a:tblPr/>
              <a:tblGrid>
                <a:gridCol w="1260360"/>
                <a:gridCol w="126036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371" name="Рисунок 20" descr="http://www.kitaphane.ru/ebooks/gibrag/13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578560" y="390600"/>
            <a:ext cx="3163680" cy="486396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6"/>
          <p:cNvSpPr/>
          <p:nvPr/>
        </p:nvSpPr>
        <p:spPr>
          <a:xfrm>
            <a:off x="468360" y="981000"/>
            <a:ext cx="482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браһимов!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 – гаҗәеп матур, нечкә тел маһиры, тормышның бөтен катламнарын тирәнтен өйрәнеп, белеп иҗат иткән чын реалистик әсәрләр – романнар, повестьлар, хикәяләр язган проза остасы, ул - әдәбият галиме, күренекле тәнкыйтьче, тарихчы һәм телче, педагог, күп яшьләрнең турыдан-туры дәрес биргән укытучысы; ул – журналист та, башлап йөрүче – оештыручы, җәмәгать эшлеклесе” (Р.Гатауллин)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74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2" descr=""/>
          <p:cNvPicPr/>
          <p:nvPr/>
        </p:nvPicPr>
        <p:blipFill>
          <a:blip r:embed="rId2"/>
          <a:stretch/>
        </p:blipFill>
        <p:spPr>
          <a:xfrm>
            <a:off x="2771640" y="5445000"/>
            <a:ext cx="3095640" cy="93672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4"/>
          <p:cNvSpPr/>
          <p:nvPr/>
        </p:nvSpPr>
        <p:spPr>
          <a:xfrm>
            <a:off x="4859280" y="981000"/>
            <a:ext cx="4033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7" name="Прямоугольник 5"/>
          <p:cNvSpPr/>
          <p:nvPr/>
        </p:nvSpPr>
        <p:spPr>
          <a:xfrm>
            <a:off x="539640" y="1268280"/>
            <a:ext cx="3672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8" name="Прямоугольник 6"/>
          <p:cNvSpPr/>
          <p:nvPr/>
        </p:nvSpPr>
        <p:spPr>
          <a:xfrm>
            <a:off x="539640" y="2386080"/>
            <a:ext cx="2952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Прямоугольник 10"/>
          <p:cNvSpPr/>
          <p:nvPr/>
        </p:nvSpPr>
        <p:spPr>
          <a:xfrm flipV="1" rot="10800000">
            <a:off x="1619280" y="51822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80" name="Picture 5" descr="Изображение 052"/>
          <p:cNvPicPr/>
          <p:nvPr/>
        </p:nvPicPr>
        <p:blipFill>
          <a:blip r:embed="rId3"/>
          <a:stretch/>
        </p:blipFill>
        <p:spPr>
          <a:xfrm>
            <a:off x="611280" y="476280"/>
            <a:ext cx="3960720" cy="540072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10"/>
          <p:cNvSpPr/>
          <p:nvPr/>
        </p:nvSpPr>
        <p:spPr>
          <a:xfrm>
            <a:off x="4859280" y="476280"/>
            <a:ext cx="417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имҗан ага бик ягымлы, йомшак күңелле, үткен карашлы, киң колачлы галим иде”.</a:t>
            </a:r>
            <a:br>
              <a:rPr sz="4000"/>
            </a:b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4000"/>
            </a:b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. Мөштәри</a:t>
            </a:r>
            <a:r>
              <a:rPr b="0" i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7"/>
          <p:cNvSpPr/>
          <p:nvPr/>
        </p:nvSpPr>
        <p:spPr>
          <a:xfrm>
            <a:off x="2509920" y="32446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84" name="Picture 3" descr="Изображение 051"/>
          <p:cNvPicPr/>
          <p:nvPr/>
        </p:nvPicPr>
        <p:blipFill>
          <a:blip r:embed="rId2"/>
          <a:stretch/>
        </p:blipFill>
        <p:spPr>
          <a:xfrm>
            <a:off x="4788000" y="549360"/>
            <a:ext cx="3600360" cy="54118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9"/>
          <p:cNvSpPr/>
          <p:nvPr/>
        </p:nvSpPr>
        <p:spPr>
          <a:xfrm>
            <a:off x="539640" y="76500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имҗан Ибраһимов – киң колачлы, тормышка үтеп керә торган сизгер һәм үткер күзле язучы”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Фадеев.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4"/>
          <p:cNvSpPr/>
          <p:nvPr/>
        </p:nvSpPr>
        <p:spPr>
          <a:xfrm>
            <a:off x="414180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8" name="Прямоугольник 5"/>
          <p:cNvSpPr/>
          <p:nvPr/>
        </p:nvSpPr>
        <p:spPr>
          <a:xfrm>
            <a:off x="1428840" y="357120"/>
            <a:ext cx="6572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14240" y="2565360"/>
          <a:ext cx="325440" cy="525600"/>
        </p:xfrm>
        <a:graphic>
          <a:graphicData uri="http://schemas.openxmlformats.org/drawingml/2006/table">
            <a:tbl>
              <a:tblPr/>
              <a:tblGrid>
                <a:gridCol w="173520"/>
                <a:gridCol w="173520"/>
              </a:tblGrid>
              <a:tr h="52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390" name="Picture 3" descr="Изображение 050"/>
          <p:cNvPicPr/>
          <p:nvPr/>
        </p:nvPicPr>
        <p:blipFill>
          <a:blip r:embed="rId2"/>
          <a:stretch/>
        </p:blipFill>
        <p:spPr>
          <a:xfrm>
            <a:off x="611280" y="549360"/>
            <a:ext cx="3600360" cy="575928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7"/>
          <p:cNvSpPr/>
          <p:nvPr/>
        </p:nvSpPr>
        <p:spPr>
          <a:xfrm>
            <a:off x="4427640" y="476280"/>
            <a:ext cx="47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браһимов ару-талуны белми торган гаҗәп зирәк һәм булдыклы, зур талант ияләренә генә хас күп кырлы бер эшлекле иде”.</a:t>
            </a:r>
            <a:br>
              <a:rPr sz="3600"/>
            </a:b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Терегулов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6"/>
          <p:cNvSpPr/>
          <p:nvPr/>
        </p:nvSpPr>
        <p:spPr>
          <a:xfrm>
            <a:off x="30081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4" name="Прямоугольник 7"/>
          <p:cNvSpPr/>
          <p:nvPr/>
        </p:nvSpPr>
        <p:spPr>
          <a:xfrm>
            <a:off x="30081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5" name="Прямоугольник 8"/>
          <p:cNvSpPr/>
          <p:nvPr/>
        </p:nvSpPr>
        <p:spPr>
          <a:xfrm>
            <a:off x="30081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6" name="Прямоугольник 9"/>
          <p:cNvSpPr/>
          <p:nvPr/>
        </p:nvSpPr>
        <p:spPr>
          <a:xfrm>
            <a:off x="642960" y="54936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7" name="Прямоугольник 8"/>
          <p:cNvSpPr/>
          <p:nvPr/>
        </p:nvSpPr>
        <p:spPr>
          <a:xfrm>
            <a:off x="4211640" y="333360"/>
            <a:ext cx="46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8" name="Прямоугольник 9"/>
          <p:cNvSpPr/>
          <p:nvPr/>
        </p:nvSpPr>
        <p:spPr>
          <a:xfrm>
            <a:off x="971640" y="1484280"/>
            <a:ext cx="72723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99" name="Picture 33" descr="http://gibrahimov.ucoz.ru/_ph/3/2/595987058.jpg"/>
          <p:cNvPicPr/>
          <p:nvPr/>
        </p:nvPicPr>
        <p:blipFill>
          <a:blip r:embed="rId2"/>
          <a:stretch/>
        </p:blipFill>
        <p:spPr>
          <a:xfrm>
            <a:off x="539640" y="765000"/>
            <a:ext cx="3229200" cy="476280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35"/>
          <p:cNvSpPr/>
          <p:nvPr/>
        </p:nvSpPr>
        <p:spPr>
          <a:xfrm>
            <a:off x="4140360" y="828720"/>
            <a:ext cx="446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мачуар-төс, таплар төшкән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мачуар-ат исеме, чөнки атның төсе шундый таплы булган.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мачуар”-әсәр исеме.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"/>
          <p:cNvSpPr/>
          <p:nvPr/>
        </p:nvSpPr>
        <p:spPr>
          <a:xfrm>
            <a:off x="1785960" y="642960"/>
            <a:ext cx="67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3" name="Прямоугольник 3"/>
          <p:cNvSpPr/>
          <p:nvPr/>
        </p:nvSpPr>
        <p:spPr>
          <a:xfrm>
            <a:off x="785880" y="1928880"/>
            <a:ext cx="8143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Прямоугольник 4"/>
          <p:cNvSpPr/>
          <p:nvPr/>
        </p:nvSpPr>
        <p:spPr>
          <a:xfrm>
            <a:off x="1042920" y="692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1d1409"/>
                </a:solidFill>
                <a:latin typeface="Times New Roman"/>
                <a:ea typeface="Times New Roman"/>
              </a:rPr>
              <a:t>Чәчмә әсәрне анализлау тәртибе: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5" name="Прямоугольник 5"/>
          <p:cNvSpPr/>
          <p:nvPr/>
        </p:nvSpPr>
        <p:spPr>
          <a:xfrm>
            <a:off x="33670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6" name="Прямоугольник 6"/>
          <p:cNvSpPr/>
          <p:nvPr/>
        </p:nvSpPr>
        <p:spPr>
          <a:xfrm>
            <a:off x="33670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7" name="Прямоугольник 7"/>
          <p:cNvSpPr/>
          <p:nvPr/>
        </p:nvSpPr>
        <p:spPr>
          <a:xfrm>
            <a:off x="611280" y="1628640"/>
            <a:ext cx="8064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8" name="Прямоугольник 8"/>
          <p:cNvSpPr/>
          <p:nvPr/>
        </p:nvSpPr>
        <p:spPr>
          <a:xfrm>
            <a:off x="539640" y="1557360"/>
            <a:ext cx="842508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акыйгаларны барлау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акыйгаларның охшашларын гомумиләштереп,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е өлешкә калдыру.              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Һәр өлешкә анализ ясау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Өлешләр арасында бәйләнеш эзләү (каршылык)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Тема, проблема, идеясен ачыклау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2"/>
          <p:cNvSpPr/>
          <p:nvPr/>
        </p:nvSpPr>
        <p:spPr>
          <a:xfrm>
            <a:off x="1785960" y="642960"/>
            <a:ext cx="67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Прямоугольник 3"/>
          <p:cNvSpPr/>
          <p:nvPr/>
        </p:nvSpPr>
        <p:spPr>
          <a:xfrm>
            <a:off x="785880" y="1928880"/>
            <a:ext cx="8143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2" name="Прямоугольник 4"/>
          <p:cNvSpPr/>
          <p:nvPr/>
        </p:nvSpPr>
        <p:spPr>
          <a:xfrm>
            <a:off x="1042920" y="692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ыйгалар схемасы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Прямоугольник 5"/>
          <p:cNvSpPr/>
          <p:nvPr/>
        </p:nvSpPr>
        <p:spPr>
          <a:xfrm>
            <a:off x="33670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4" name="Прямоугольник 6"/>
          <p:cNvSpPr/>
          <p:nvPr/>
        </p:nvSpPr>
        <p:spPr>
          <a:xfrm>
            <a:off x="33670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5" name="Прямоугольник 7"/>
          <p:cNvSpPr/>
          <p:nvPr/>
        </p:nvSpPr>
        <p:spPr>
          <a:xfrm>
            <a:off x="611280" y="1628640"/>
            <a:ext cx="8064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6" name="Rectangle 53"/>
          <p:cNvSpPr/>
          <p:nvPr/>
        </p:nvSpPr>
        <p:spPr>
          <a:xfrm>
            <a:off x="755640" y="2009880"/>
            <a:ext cx="80643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шкорт бае лемгол Сабантуйда гаделсез көрәшә, чирли, гафу үтенә, Хафизга яхшы атын бирә, гафу ителә, терелә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Кара бай Закирның абыйсын нахакка гаепли, төрмәгә утырта, гафу үтенми, үлә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Староста Сабантуйда беренче урынны гаделсез билгели, бите яралана, гафу үтенә, акча бирә, юаныч таба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 Закир үзен – үзе генә ярата, башкалар белән исәпләшми, старостаның битенә суга, гафу үтенми, Алмачуарга гаделсез, атын кыйный, соңыннан йөртми, аты үлә. Иң зур җәзага дучар була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12:06:13Z</dcterms:created>
  <dc:creator>Customer</dc:creator>
  <dc:description/>
  <dc:language>en-US</dc:language>
  <cp:lastModifiedBy>Пользователь</cp:lastModifiedBy>
  <dcterms:modified xsi:type="dcterms:W3CDTF">2012-02-28T15:54:12Z</dcterms:modified>
  <cp:revision>46</cp:revision>
  <dc:subject/>
  <dc:title>Слайд 1</dc:title>
</cp:coreProperties>
</file>